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591-FC39-4673-A791-BDABFC5D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191-C32F-4CF5-A95C-ED3C8334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EC6-AF4E-4713-90D2-4780CD68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69F-17B1-405B-A6D7-CE443508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B6D7-DC1E-44CF-965D-ECEF8E64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91D1-A23B-4A3C-BD12-0A774DCA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C4BF-D133-4AD2-98E1-E3870EA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BDAA-99BF-44BE-9EF9-0FB5956D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9F37-815D-4AAC-A960-0CE30394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116B-892E-4AE6-864D-15B9A6A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AE33-1667-4007-BC57-FDAE9389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543-CF4A-465E-B3C7-957475E6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395A-FEAA-4AAE-877E-E9441A0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80A3-E15F-44CE-94BE-B92CCF9F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4DA-45CB-44B0-A46E-60A711B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3515-00DC-443C-9C32-B0CB18D7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B429-A5FC-4334-B63B-ED286E70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AC0-C7A9-4435-9940-161B538B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EE2-10F7-4C9B-8378-379DE2B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2C3-3B99-4478-946E-C43BA73E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E1F-7642-4AEC-8B63-76AA00A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214-008A-4EDD-B2BF-FBC9CB8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A71-ACA3-424F-8C72-F2533E7F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6B9-F5C1-4BC6-B4AA-D1E02AA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8EED-2B49-4196-8DCF-72AC55A9E336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155-7002-444A-8FF4-FF63046518C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Jste profesioná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ento kvíz zjišťuje, je-li možné Vás klasifikovat jako „profesionála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24080" y="222876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tu řeka, přes kterou se musíte dostat, ale je plná krokodýlů. Jak to dokážet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19520" y="1752480"/>
            <a:ext cx="6019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ávná odpověď: Přeplavete 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ichni krokodýli jsou přece 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ířecí konferen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otázka testuje Vaší schop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učit se z vlastních chy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380880"/>
            <a:ext cx="6248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Andersen Consul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orldwide mělo 90% testovaný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fesionál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odpovědi špatné. Ale mno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í předškolního věku mělo hod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ávných odpovědí. Anders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onsulting to koment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k, že výsledky popírají teorii, pod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m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ětšina profesionálů mozek čtyřletéh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ítě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1980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Pošlete dál, abyste frustrovali všechny Vaše přátele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5331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ázky nejsou tak těžké, takže nepodvádějte a nedívejte se dopřed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dostanete žirafu do ledničk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5640" y="762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První otázk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Správná odpověď je: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ít ledničku, vložit žirafu a zavřít dveř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to otázka testuje, zda máte tendenci dělat jednoduché věci zbytečně komplikovaným způsob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Druhá otázka: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dostanete do ledničky sl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Nesprávná odpověď je: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evřít ledničku, vložit slona a zavřít j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rávná odpověď 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evřít ledničku, vyjmout žirafu, vložit slona, zavřít lednič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oto je test Vaší schopnosti uvědomovat si návaznost toho, co dělá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Třetí otázka: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ví král svolal zvířecí konferenci. Dostavila se všechna zvířata kromě jednoho. Které to bylo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 Narrow"/>
              </a:rPr>
              <a:t>Správná odpověď: Slon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on je přece v ledničce, vzpomíná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ato otázka testuje Vaší paměť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OK.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stliže jste předchozí 3 otázky nezodpověděli správně, máte ještě jednu šanci prokázat svoje schop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1:29:40Z</dcterms:created>
  <dc:creator/>
  <dc:description/>
  <dc:language>en-US</dc:language>
  <cp:lastModifiedBy>Mitch</cp:lastModifiedBy>
  <cp:lastPrinted>2003-04-13T11:29:40Z</cp:lastPrinted>
  <dcterms:modified xsi:type="dcterms:W3CDTF">2003-04-18T09:43:04Z</dcterms:modified>
  <cp:revision>17</cp:revision>
  <dc:subject/>
  <dc:title>Prezentace aplikace PowerPoint</dc:title>
</cp:coreProperties>
</file>